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D9BA-8BCD-4DA6-9E13-328D30987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4B68-3CF8-41C3-92EF-7144F9E0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C6BC58-BC06-4E5D-B6E8-AEED50A9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29E4AD-4F1E-4FA3-8BEF-8DCA3438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C0725C-4D5B-4106-85D0-BC2D2203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A85663-92E5-4A74-9400-01514F02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0046F1-5722-4B54-A079-A4ACE68C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06ABC3-1BCC-4304-8ADE-9DD295F0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ABB802-D6C6-4AE8-BBC6-3AB03D17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D68B60-E012-4261-B825-3E662554F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4371BA-1E07-4A2B-8E22-542A6FE13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61A409-E4B6-4171-BB73-2F5828093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F8EA-776F-49C3-A3BB-986916D2A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AB3EC4-BE8E-47A0-B3AF-71C3B75E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6F97B6-3C41-43B8-B51D-477C7D48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7B702E-A4AE-49EB-A41B-1C477412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B73481-AD5C-4389-A556-91116EC7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286941-FCC8-4EE6-808F-A635A731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513310-0524-4C90-861B-2308EEF4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2D3082-144B-4598-A0ED-61D244EE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4F6424-DA01-4513-9482-58851F37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094C08-A086-4AF2-A4F5-CC7D51C8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2BA060-5A3F-46CE-AB5B-A084230DA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CE36-3DAA-4A15-8520-EC0598865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5F96A3-7CC7-4DB4-A063-8341833E3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6909F-2753-4FBB-B414-1F1F87E31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F569B-A037-4755-890B-C4839A29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C07417-294C-4966-930E-A8D8E29F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3EA51-6823-4E98-BF2E-F25801E8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3B4D36-EEE8-4028-8F35-D0F20045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0CA9F-B126-4E2C-9491-2A9F252E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26C695-D68B-4B93-97EB-6C460711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FFF57-B5A3-48C2-9B9D-5591066C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3AB3DA-EC6E-45EF-B512-04AC4AD4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B869-B08B-4F58-92CA-B6C3ADA42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A2396-27EE-4A18-8F7D-1A7178C5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24941-E37A-49D8-95FB-96D2F2D3A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D6DF4-E824-42DA-AADD-C1B2527AF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7A91BD-AFEE-4A4E-B124-D9B047738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714E53-3908-484F-A992-CB4BB6D6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CA9F7B-5BF9-4F64-850E-80EA96F9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6E10F6-6192-46C9-853A-10A10066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B8ECDF-9656-4266-A0E7-001F09C7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732081-82FF-409A-99FC-970EA869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D18F6F-B094-4EA6-AE5F-07E3995A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BF06-2823-48D3-AB8E-AA6A2D90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8A958F-FD47-4F01-B07A-85CA2162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B39BE4-C252-4908-9BBE-D4E64D1F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29D3E1-79CF-401E-AE95-868708C6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339440-BAB9-4EF2-91A1-CB5813D6F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B62D58-7642-4150-B2C6-0F987115A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35C37-D2CE-497A-9470-DD8CFAEE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909E-9084-4632-ABD9-F461826B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23B7-8466-4529-956C-7643E0C0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01581-BDAF-4A33-BA82-DABE8A3E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F32B-EEE2-4BA3-A9B1-BA3B64D6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AAC6-ED60-4B95-9B59-FCF79689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1DD5-9196-4CF3-8860-09F22658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C65B-254C-45D2-B021-34F20BA6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510D-9AA9-4948-A9DC-B304233E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7EB1-3F93-49D6-AEF6-3109827A9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54EAE-BECD-4495-8762-80A4E6357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FFDA3-1791-4F39-BC20-7FCF70A60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F9DA6-0BC1-4C24-A68E-F3756051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62CDC-0AFC-46E1-9880-0873D92C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FD4C3-9211-422B-9063-74BCAA65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040F3-D746-40D7-B0A6-FE72731E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AEE7-034E-4BC6-9BDD-F92372EA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008B9-6F2D-4C2D-A6DC-37DE3A9E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F313A-7330-4409-A41B-F83E4E4B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33CAF-4A20-4A29-A7E7-AE34DF1B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33B6F-4E0B-4C22-A864-BBA330DA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E87A9-F88D-4866-B86B-2A50765E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EF8F8-1FE0-4CCC-A657-29A467128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96AE3-E9DA-4AAD-AB72-8473116EC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C0EF0-38BD-400C-B26F-AD11478C2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3D2C1-E54F-4E49-918F-77CD00A3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E2AD6-08DA-4148-9875-5C486A82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3CEF-C543-417B-9047-EE9E9E1E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09D3A-97C1-40B1-BFF7-DEB258960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28EB0-DFEC-4320-9F95-C302782E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93BC4-A7CD-4B45-B5E8-23AC713D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6177B-601B-4A1A-A02B-4E9A720E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31FA3-12FF-48EE-87A5-8BBCD578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1CA47-EA6F-430C-9C03-ABBD3C70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8D660-6430-4974-84A3-D74A4BE1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C9B10-0074-41F2-85D9-7C2BD0C91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EF41A-1064-4626-A450-328375810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E84C5-05C0-4410-AEC4-14DCD61A6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25E5-5A66-4C89-855E-FEBC4AD0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D6D3B-D622-4027-A16E-15F6D5D5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914F8-69D6-49C6-9D74-04274916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EB59A-9C44-4D5F-81A3-1B660DDE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29038-A875-4EDC-BAC0-51795AE7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006AE-F97C-4BD8-A28C-4722EF42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2D1FD-4262-4F71-9C8F-9C422A22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C25F4-26B5-4BF3-9A86-54B81E07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EC1F8-2935-4575-9065-1C3D7BC1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43B46-2322-444D-99D1-1E4AF309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47BAA-E679-42F7-AFA2-DF40EAB73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1E16-2D3C-4E3B-BB96-F30617E4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205E0-5E4A-4BB5-B574-FC14B4902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215A2-DB28-4EE2-A401-1B0938213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2225D-FF29-46BF-9D16-2C88361B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6C364-5C6D-408A-A673-58E4D8AD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D2FC1-9722-4640-B290-8AB43D80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3C9D7-9561-4E7D-8879-2DF5077A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E8890-55B3-4FD6-BBCD-470A2614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DDFB6-6ABD-47CB-ACD9-D28AD5EA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9E255-CA9B-4278-928E-B57318E6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94820-629A-4659-8A45-BD5293F7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6C0B-7BAC-45CF-B7D6-3A53227F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27CB6-404C-4657-846A-41F11ACF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FBEDC-3B00-40CD-ABED-8D49146FE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8CC1F-0FCF-465D-85AD-E28A59949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CCB4D-2E32-4E7F-B1A1-147EF126C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F9BAD-A239-42F6-8AC1-8FB63E81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EAB67-010E-4B7D-AD44-9A22CE9E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673ED-C8C7-4E3F-A3C8-728B1CCA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2F5DD-1A53-4674-920F-386A23E6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5BCE7-933D-438C-B795-84148D42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4D746-AAB9-4B9E-A5B9-7A8DC166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E7EF-5EF1-44A7-A9B6-8A726E51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8B7E3-62C3-4D53-B1AA-F321397F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7F38E-3211-4C8A-A55C-1AF67E4C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7596B-E881-4907-910A-BA13A1F6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6EF8C-D35E-4148-A909-F89C4BCBB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EADFC-4CEB-46BC-879D-BB95F243C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F8A1E-BA50-4D3B-A471-E27EE7EA7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95CE9-F9C6-43D9-9CEC-7B339EC9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F3054-5200-4DC9-9207-03CA5851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73941-DE98-4D0A-B271-6801CB8A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0EE93-639C-49B8-B0A7-FA9FE67E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C0A8-D895-4116-8779-A66124A3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EB467-2430-42FB-A0AD-31D1912B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6A0E9-C755-4DA4-8742-01A3A3C5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C25F7-2409-4B7B-80F6-03B91291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A6AC8-5B9C-4CA5-B1B1-2DD74C68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3A7C8-C43A-4AA0-B1A5-DB84DD45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7C74C-07D1-4E92-92B7-6E77BA7F5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58ABB-1BAD-4D99-907F-EB2E767F9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7DF412-42D4-43A9-84AE-347CCF7D7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77C9A2-58C6-4453-B4DB-8E1AC290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474FB3-280F-4C9D-8590-E97F30BE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7D67-FF78-496D-91EE-AF401954E4D0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164c6c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3C9B-6ADF-442D-8CE6-C946127BFA95}" type="slidenum">
              <a:rPr b="0" lang="en-US" sz="1600" spc="-1" strike="noStrike">
                <a:solidFill>
                  <a:srgbClr val="164c6c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164c6c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1340-8D38-4D01-A335-A1526B6CEB86}" type="slidenum">
              <a:rPr b="0" lang="en-US" sz="1600" spc="-1" strike="noStrike">
                <a:solidFill>
                  <a:srgbClr val="164c6c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D415-0FE8-4F4E-9652-6B3CB61C5040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2CF6-F696-4371-A320-A32EAEF4667D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164c6c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E0DE-746F-41AF-A371-0FE41D40CE1C}" type="slidenum">
              <a:rPr b="0" lang="en-US" sz="1600" spc="-1" strike="noStrike">
                <a:solidFill>
                  <a:srgbClr val="164c6c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164c6c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7A6B-5A21-407C-A089-C2E7DC41C85B}" type="slidenum">
              <a:rPr b="0" lang="en-US" sz="1600" spc="-1" strike="noStrike">
                <a:solidFill>
                  <a:srgbClr val="164c6c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F5D6-B444-40EC-9E7D-7B4484082DF0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B0E8-7899-42FF-8E4F-9970F1D85608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164c6c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53F5-CC95-4AEB-BC35-9292B5BC18EA}" type="slidenum">
              <a:rPr b="0" lang="en-US" sz="1600" spc="-1" strike="noStrike">
                <a:solidFill>
                  <a:srgbClr val="164c6c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01B1-F9E9-44BB-A4CE-A7CBDC44559D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164c6c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8D30-E0B8-4A12-9523-4576BEA057D8}" type="slidenum">
              <a:rPr b="0" lang="en-US" sz="1600" spc="-1" strike="noStrike">
                <a:solidFill>
                  <a:srgbClr val="164c6c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530E-196F-47C0-B1CF-D63376DF8837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164c6c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21F7-4153-46B0-B2AC-5FEDCC3CD7E9}" type="slidenum">
              <a:rPr b="0" lang="en-US" sz="1600" spc="-1" strike="noStrike">
                <a:solidFill>
                  <a:srgbClr val="164c6c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32323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48E3-63F6-4CC4-A903-3A8FED1DFB2B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164c6c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D561-CF82-44B0-8033-5BBADB7EB33B}" type="slidenum">
              <a:rPr b="0" lang="en-US" sz="1600" spc="-1" strike="noStrike">
                <a:solidFill>
                  <a:srgbClr val="164c6c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32323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4538-BAF9-4256-8AA2-E5F4F9BF734D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164c6c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22D8-DE4E-4F35-9C47-21CE745344FD}" type="slidenum">
              <a:rPr b="0" lang="en-US" sz="1600" spc="-1" strike="noStrike">
                <a:solidFill>
                  <a:srgbClr val="164c6c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E7A1-1BC3-404E-B0DD-7EB16ACE596C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164c6c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8CD2-5BCB-4A25-B885-E0BD13EC3DFC}" type="slidenum">
              <a:rPr b="0" lang="en-US" sz="1600" spc="-1" strike="noStrike">
                <a:solidFill>
                  <a:srgbClr val="164c6c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5010-7C2F-4CA0-9351-45F780DF3BF1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BD26A-450A-4267-AD53-9D34C28BB199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164c6c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4577-9704-426E-AA18-5A0697F2A1AB}" type="slidenum">
              <a:rPr b="0" lang="en-US" sz="1600" spc="-1" strike="noStrike">
                <a:solidFill>
                  <a:srgbClr val="164c6c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9325-C1F3-4436-97C4-5B1099571219}" type="datetime">
              <a:rPr b="0" lang="en-US" sz="1400" spc="-1" strike="noStrike">
                <a:solidFill>
                  <a:srgbClr val="ffffff"/>
                </a:solidFill>
                <a:latin typeface="Georgi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Georgia"/>
              </a:rPr>
              <a:t>CHRIS DANIEL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Georgia"/>
              </a:rPr>
              <a:t>MAYA IID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3232"/>
                </a:solidFill>
                <a:latin typeface="Georgia"/>
              </a:rPr>
              <a:t>ETEC 601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07f09"/>
                </a:solidFill>
                <a:latin typeface="Georgia"/>
              </a:rPr>
              <a:t>Research Method:</a:t>
            </a:r>
            <a:br>
              <a:rPr sz="4200"/>
            </a:br>
            <a:r>
              <a:rPr b="0" lang="en-US" sz="4200" spc="-1" strike="noStrike">
                <a:solidFill>
                  <a:srgbClr val="f07f09"/>
                </a:solidFill>
                <a:latin typeface="Georgia"/>
              </a:rPr>
              <a:t>Observation</a:t>
            </a:r>
            <a:endParaRPr b="0" lang="en-US" sz="4200" spc="-1" strike="noStrike">
              <a:solidFill>
                <a:srgbClr val="164c6c"/>
              </a:solidFill>
              <a:latin typeface="Georgia"/>
            </a:endParaRPr>
          </a:p>
        </p:txBody>
      </p:sp>
      <p:pic>
        <p:nvPicPr>
          <p:cNvPr id="608" name="Picture 3" descr="GS005C.TIF"/>
          <p:cNvPicPr/>
          <p:nvPr/>
        </p:nvPicPr>
        <p:blipFill>
          <a:blip r:embed="rId1"/>
          <a:stretch/>
        </p:blipFill>
        <p:spPr>
          <a:xfrm>
            <a:off x="2438280" y="4800600"/>
            <a:ext cx="4343400" cy="15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Do’s and Don’ts for Observation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1320" y="1527120"/>
            <a:ext cx="850428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e-Observation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481680" indent="-24012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eorgia"/>
              </a:rPr>
              <a:t>DO</a:t>
            </a:r>
            <a:endParaRPr b="0" lang="en-US" sz="2800" spc="-1" strike="noStrike">
              <a:solidFill>
                <a:srgbClr val="323232"/>
              </a:solidFill>
              <a:latin typeface="Georgia"/>
            </a:endParaRPr>
          </a:p>
          <a:p>
            <a:pPr lvl="2" marL="723240" indent="-200880">
              <a:lnSpc>
                <a:spcPct val="90000"/>
              </a:lnSpc>
              <a:spcBef>
                <a:spcPts val="601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1. Analyze and select appropriate  participan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723240" indent="-200880">
              <a:lnSpc>
                <a:spcPct val="90000"/>
              </a:lnSpc>
              <a:spcBef>
                <a:spcPts val="601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723240" indent="-200880">
              <a:lnSpc>
                <a:spcPct val="90000"/>
              </a:lnSpc>
              <a:spcBef>
                <a:spcPts val="601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2. Research classroom organization and structur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723240" indent="-200880">
              <a:lnSpc>
                <a:spcPct val="90000"/>
              </a:lnSpc>
              <a:spcBef>
                <a:spcPts val="601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723240" indent="-200880">
              <a:lnSpc>
                <a:spcPct val="90000"/>
              </a:lnSpc>
              <a:spcBef>
                <a:spcPts val="601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3. Prepare open ended questio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723240" indent="-200880">
              <a:lnSpc>
                <a:spcPct val="90000"/>
              </a:lnSpc>
              <a:spcBef>
                <a:spcPts val="601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723240" indent="-200880">
              <a:lnSpc>
                <a:spcPct val="90000"/>
              </a:lnSpc>
              <a:spcBef>
                <a:spcPts val="499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4. Think about what you want to learn from the observ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481680" indent="-24012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3232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Analyze Target Audience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pic>
        <p:nvPicPr>
          <p:cNvPr id="632" name="Content Placeholder 3" descr="clangnuts%20bluetooth.jpg"/>
          <p:cNvPicPr/>
          <p:nvPr/>
        </p:nvPicPr>
        <p:blipFill>
          <a:blip r:embed="rId1"/>
          <a:stretch/>
        </p:blipFill>
        <p:spPr>
          <a:xfrm>
            <a:off x="1371600" y="1447920"/>
            <a:ext cx="6400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Do’s and Don’ts for Observation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e-Observation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eorgia"/>
              </a:rPr>
              <a:t>DON’T</a:t>
            </a:r>
            <a:endParaRPr b="0" lang="en-US" sz="2800" spc="-1" strike="noStrike">
              <a:solidFill>
                <a:srgbClr val="323232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1. Have a predetermined outcome from the observ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2. Encourage students to behave irregularl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3. Plan too casuall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Do’s and Don’ts for Observation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01320" y="1527120"/>
            <a:ext cx="850428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During Observation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03640" indent="-250920">
              <a:spcBef>
                <a:spcPts val="649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3232"/>
                </a:solidFill>
                <a:latin typeface="Georgia"/>
              </a:rPr>
              <a:t>DO</a:t>
            </a:r>
            <a:endParaRPr b="0" lang="en-US" sz="2600" spc="-1" strike="noStrike">
              <a:solidFill>
                <a:srgbClr val="323232"/>
              </a:solidFill>
              <a:latin typeface="Georgia"/>
            </a:endParaRPr>
          </a:p>
          <a:p>
            <a:pPr lvl="2" marL="756360" indent="-210240">
              <a:spcBef>
                <a:spcPts val="524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1. Encourage students to think out loud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lvl="2" marL="756360" indent="-210240">
              <a:spcBef>
                <a:spcPts val="524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lvl="2" marL="756360" indent="-210240">
              <a:spcBef>
                <a:spcPts val="524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2. Utilize all senses in observing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lvl="2" marL="756360" indent="-210240">
              <a:spcBef>
                <a:spcPts val="524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lvl="2" marL="756360" indent="-210240">
              <a:spcBef>
                <a:spcPts val="524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3. Remain mobile throughout the observation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lvl="2" marL="756360" indent="-210240">
              <a:spcBef>
                <a:spcPts val="524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lvl="2" marL="756360" indent="-210240">
              <a:spcBef>
                <a:spcPts val="524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4. Keep a log or complete an observation guide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lvl="2" marL="756360" indent="-210240">
              <a:spcBef>
                <a:spcPts val="524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lvl="2" marL="756360" indent="-210240">
              <a:spcBef>
                <a:spcPts val="649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5. Be consistent with time day and duration of observation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Do’s and Don’ts for Observation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uring Observ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eorgia"/>
              </a:rPr>
              <a:t>DON’T</a:t>
            </a:r>
            <a:endParaRPr b="0" lang="en-US" sz="2800" spc="-1" strike="noStrike">
              <a:solidFill>
                <a:srgbClr val="323232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1. Overly help or prompt studen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2. Infer ideas based on observ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3. Censor what you write dow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4. Observe too narrowl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Narrow Observation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pic>
        <p:nvPicPr>
          <p:cNvPr id="640" name="Content Placeholder 3" descr="2006-01-16.gif"/>
          <p:cNvPicPr/>
          <p:nvPr/>
        </p:nvPicPr>
        <p:blipFill>
          <a:blip r:embed="rId1"/>
          <a:stretch/>
        </p:blipFill>
        <p:spPr>
          <a:xfrm>
            <a:off x="1981080" y="1295280"/>
            <a:ext cx="525780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Resources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152280" y="1526760"/>
            <a:ext cx="884232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550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Mills E. Geoffrey (copyright 2011) Action research –A Guide for the Teacher Researcher. Fourth Edition. pg 70-78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spcBef>
                <a:spcPts val="550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spcBef>
                <a:spcPts val="550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http://oldweb.madison.k12.wi.us/sod/car/carhomepage.html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spcBef>
                <a:spcPts val="550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spcBef>
                <a:spcPts val="550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http://www.humboldt.edu/~tha1/observ.html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spcBef>
                <a:spcPts val="550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spcBef>
                <a:spcPts val="550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http://www.cdc.gov/healthyYouth/evaluation/pdf/brief16.pdf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spcBef>
                <a:spcPts val="60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spcBef>
                <a:spcPts val="62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ttp://oldweb.madison.k12.wi.us/sod/car/search.cgi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Mahalo!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pic>
        <p:nvPicPr>
          <p:cNvPr id="644" name="Content Placeholder 3" descr="BSK011C.TIF"/>
          <p:cNvPicPr/>
          <p:nvPr/>
        </p:nvPicPr>
        <p:blipFill>
          <a:blip r:embed="rId1"/>
          <a:stretch/>
        </p:blipFill>
        <p:spPr>
          <a:xfrm>
            <a:off x="1905120" y="1770120"/>
            <a:ext cx="5300640" cy="4630680"/>
          </a:xfrm>
          <a:prstGeom prst="rect">
            <a:avLst/>
          </a:prstGeom>
          <a:ln w="0">
            <a:noFill/>
          </a:ln>
        </p:spPr>
      </p:pic>
      <p:sp>
        <p:nvSpPr>
          <p:cNvPr id="645" name="TextBox 4"/>
          <p:cNvSpPr/>
          <p:nvPr/>
        </p:nvSpPr>
        <p:spPr>
          <a:xfrm>
            <a:off x="2514600" y="3962520"/>
            <a:ext cx="426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ny Question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onsider This: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few observations and much reasoning lead to error; many observations and a little reasoning lead to truth.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Alexis Carrel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Roles of an Observer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articipant Observ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3232"/>
                </a:solidFill>
                <a:latin typeface="Georgia"/>
              </a:rPr>
              <a:t>Researcher is a genuine participant in the activity being studied.</a:t>
            </a:r>
            <a:endParaRPr b="0" lang="en-US" sz="2200" spc="-1" strike="noStrike">
              <a:solidFill>
                <a:srgbClr val="323232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mote Observ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3232"/>
                </a:solidFill>
                <a:latin typeface="Georgia"/>
              </a:rPr>
              <a:t>Researcher observes out of sight of participants in the activity being studied. </a:t>
            </a:r>
            <a:endParaRPr b="0" lang="en-US" sz="2200" spc="-1" strike="noStrike">
              <a:solidFill>
                <a:srgbClr val="323232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3" name="Picture 3" descr="AAKS009C.TIF"/>
          <p:cNvPicPr/>
          <p:nvPr/>
        </p:nvPicPr>
        <p:blipFill>
          <a:blip r:embed="rId1"/>
          <a:stretch/>
        </p:blipFill>
        <p:spPr>
          <a:xfrm>
            <a:off x="4648320" y="4132440"/>
            <a:ext cx="40384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Roles of an Observer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ctive Participant Observ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3232"/>
                </a:solidFill>
                <a:latin typeface="Georgia"/>
              </a:rPr>
              <a:t>Researcher has an active role in activity being studied.</a:t>
            </a:r>
            <a:endParaRPr b="0" lang="en-US" sz="2200" spc="-1" strike="noStrike">
              <a:solidFill>
                <a:srgbClr val="323232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3232"/>
                </a:solidFill>
                <a:latin typeface="Georgia"/>
              </a:rPr>
              <a:t>Must be aware not to get so involved that you forget to record observations.</a:t>
            </a:r>
            <a:endParaRPr b="0" lang="en-US" sz="2200" spc="-1" strike="noStrike">
              <a:solidFill>
                <a:srgbClr val="323232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3232"/>
                </a:solidFill>
                <a:latin typeface="Georgia"/>
              </a:rPr>
              <a:t>Most common data collection method for teachers doing action research.</a:t>
            </a:r>
            <a:endParaRPr b="0" lang="en-US" sz="2200" spc="-1" strike="noStrike">
              <a:solidFill>
                <a:srgbClr val="323232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Roles of an Observer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ivileged, Active Observ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3232"/>
                </a:solidFill>
                <a:latin typeface="Georgia"/>
              </a:rPr>
              <a:t>Researcher has active role in activity being studied</a:t>
            </a:r>
            <a:endParaRPr b="0" lang="en-US" sz="2200" spc="-1" strike="noStrike">
              <a:solidFill>
                <a:srgbClr val="323232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3232"/>
                </a:solidFill>
                <a:latin typeface="Georgia"/>
              </a:rPr>
              <a:t>Researcher is able to step back and record because not solely responsible for activity. </a:t>
            </a:r>
            <a:endParaRPr b="0" lang="en-US" sz="2200" spc="-1" strike="noStrike">
              <a:solidFill>
                <a:srgbClr val="323232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3232"/>
                </a:solidFill>
                <a:latin typeface="Georgia"/>
              </a:rPr>
              <a:t>For teachers doing action research, this role type requires teachers to take time away from non teaching activities. </a:t>
            </a:r>
            <a:endParaRPr b="0" lang="en-US" sz="2200" spc="-1" strike="noStrike">
              <a:solidFill>
                <a:srgbClr val="323232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Roles of an Observer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assive Observ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3232"/>
                </a:solidFill>
                <a:latin typeface="Georgia"/>
              </a:rPr>
              <a:t>Researcher does not have an active role in activity being studied.</a:t>
            </a:r>
            <a:endParaRPr b="0" lang="en-US" sz="2200" spc="-1" strike="noStrike">
              <a:solidFill>
                <a:srgbClr val="323232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3232"/>
                </a:solidFill>
                <a:latin typeface="Georgia"/>
              </a:rPr>
              <a:t>Provides new perspective on activity.</a:t>
            </a:r>
            <a:endParaRPr b="0" lang="en-US" sz="2200" spc="-1" strike="noStrike">
              <a:solidFill>
                <a:srgbClr val="323232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Field Notes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bserve and record everything you ca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3232"/>
                </a:solidFill>
                <a:latin typeface="Georgia"/>
              </a:rPr>
              <a:t>Unsure of what you want to attune to</a:t>
            </a:r>
            <a:endParaRPr b="0" lang="en-US" sz="2200" spc="-1" strike="noStrike">
              <a:solidFill>
                <a:srgbClr val="323232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bserve and look for nothing in particula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3232"/>
                </a:solidFill>
                <a:latin typeface="Georgia"/>
              </a:rPr>
              <a:t>Familiar setting, what makes this activity run smoothly</a:t>
            </a:r>
            <a:endParaRPr b="0" lang="en-US" sz="2200" spc="-1" strike="noStrike">
              <a:solidFill>
                <a:srgbClr val="323232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bserve and look for paradox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23232"/>
                </a:solidFill>
                <a:latin typeface="Georgia"/>
              </a:rPr>
              <a:t>Look for disruptions and unexpected responses</a:t>
            </a:r>
            <a:br>
              <a:rPr sz="2200"/>
            </a:br>
            <a:r>
              <a:rPr b="0" lang="en-US" sz="2200" spc="-1" strike="noStrike">
                <a:solidFill>
                  <a:srgbClr val="323232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323232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ase Study 1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6760"/>
            <a:ext cx="850428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550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Birmingham, Mary. (2001) How Do we Teach Students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With High Impulsivity and Anxiety to Improve in the Area of Self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Regulation?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ttp://oldweb.madison.k12.wi.us/sod/car/abstracts/29.pdf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1.   Researchers observed students pre-instruction to classify the target group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676800" indent="-442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232"/>
              </a:solidFill>
              <a:latin typeface="Georgia"/>
            </a:endParaRPr>
          </a:p>
          <a:p>
            <a:pPr marL="234360" indent="-234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2.  Observational data that was collected helped researchers create questions to guide instruction and to discover what each student required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3.  Observation served as a final assessment of effectiveness that the  instruction</a:t>
            </a:r>
            <a:br>
              <a:rPr sz="2100"/>
            </a:b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4" name="Picture 3" descr="SDK001C.TIF"/>
          <p:cNvPicPr/>
          <p:nvPr/>
        </p:nvPicPr>
        <p:blipFill>
          <a:blip r:embed="rId1"/>
          <a:stretch/>
        </p:blipFill>
        <p:spPr>
          <a:xfrm>
            <a:off x="7848720" y="228600"/>
            <a:ext cx="990360" cy="160020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ase Study 2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Seelman, Carrie. (2002). Moving Out of Chaos: A Reading Workshop Approach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ttp://oldweb.madison.k12.wi.us/sod/car/abstracts/372.pdf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1.  Observation used to log the pre and post implementation of Readers workshop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2.  Comparison observation is utilized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3.  Observation used as formative assessment.  </a:t>
            </a:r>
            <a:br>
              <a:rPr sz="2700"/>
            </a:b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7" name="Picture 5" descr="BSK005C.TIF"/>
          <p:cNvPicPr/>
          <p:nvPr/>
        </p:nvPicPr>
        <p:blipFill>
          <a:blip r:embed="rId1"/>
          <a:stretch/>
        </p:blipFill>
        <p:spPr>
          <a:xfrm>
            <a:off x="6400800" y="3657600"/>
            <a:ext cx="2209680" cy="2589120"/>
          </a:xfrm>
          <a:prstGeom prst="rect">
            <a:avLst/>
          </a:prstGeom>
          <a:ln w="0">
            <a:noFill/>
          </a:ln>
        </p:spPr>
      </p:pic>
      <p:sp>
        <p:nvSpPr>
          <p:cNvPr id="628" name="TextBox 6"/>
          <p:cNvSpPr/>
          <p:nvPr/>
        </p:nvSpPr>
        <p:spPr>
          <a:xfrm>
            <a:off x="6477120" y="48006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Reading workshop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17:01:33Z</dcterms:created>
  <dc:creator>Maya Iida</dc:creator>
  <dc:description/>
  <dc:language>en-US</dc:language>
  <cp:lastModifiedBy>Chris Daniels</cp:lastModifiedBy>
  <dcterms:modified xsi:type="dcterms:W3CDTF">2010-03-17T03:28:22Z</dcterms:modified>
  <cp:revision>33</cp:revision>
  <dc:subject/>
  <dc:title>Research Method: Observation</dc:title>
</cp:coreProperties>
</file>